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F6C3C-22B5-4D47-B67F-C383871F86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D5FEA-88F8-4E55-9931-225BB9D014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975CA-0086-4C22-B318-802C3EDAE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8A1B-C910-4C85-888A-CBB05EC9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DB0A6-2EA4-404F-9DB3-4EF677C6C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DCC86-E56B-4726-9E82-158D0B05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3A609-E503-431C-B11E-2DBD7BE7D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DF38D-C736-4A48-9BA7-CB021B94A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5E300-919D-4AC6-87A2-49288144F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F50DC-B5D9-46BC-9C6A-7177881E3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0AD1A-61EE-434A-8FF8-3EEBDE717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48B29-EB45-4264-88CF-302A3725A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6992E-3376-432C-99FE-D912784A7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4E88-F9C2-4777-BEF0-9456939A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7AC20-73D9-4289-9471-1ED26903F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4F6DC-E3D1-4944-8259-94DB33C52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B7D10-AFF4-433E-9D0C-D6FA8A0FC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1656C-BD88-43C8-AA82-492EF967A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58198-D1B0-433A-9CCD-C792B5F4B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921CB6-EC76-4B46-99C6-6F8DC0C9E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1FCB4-02A4-41AF-A174-4818ECBE5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242B3-8D2B-4097-B89B-5F6D0D263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DA7EF-63BC-4EF8-A86F-CD9B79E4A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70B92-7181-4B96-A059-E493095C6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C4647-B465-40AC-915B-0C250118B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79163-C5B0-48A1-A575-344A288C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994A3-CE95-4E7B-A6D1-B6F5353D1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C3496-385D-49E3-8BE2-A04872257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F5CB8-523F-4B11-B090-AEB4A58C3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1F891-8FCA-45D4-8D01-F52EB316F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DE874F-DF63-43A8-AF4A-F47BCBF425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CFE41F-16DD-435C-867C-94412BA37E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C5A1F-4EEF-400A-AA31-888DC55FD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0B54-63EE-425A-BEC8-ADA55968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6DC9-9F9D-487E-97C4-83B0D675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9306-069F-48F5-B9FE-E75C9811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26BD-01A6-4475-8BA4-EDA5BC4C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DA90-C14B-450C-A2BE-96D4F0995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78994-1B12-4A39-BCFC-6258DA50D33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2A3AF-C3F7-4218-A68F-021EE20CB2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A292E-A85B-49A8-97C3-2D820410B19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365E6-5114-429A-BC47-BD46EE9894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FFF27-3C29-4CB7-9507-A4E006CE5E5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45F70-5F12-43F8-AAC8-F1AED6C76B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5 CuadroTexto"/>
          <p:cNvSpPr/>
          <p:nvPr/>
        </p:nvSpPr>
        <p:spPr>
          <a:xfrm>
            <a:off x="236520" y="1717560"/>
            <a:ext cx="865656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3600" spc="-1" strike="noStrike">
                <a:solidFill>
                  <a:srgbClr val="000000"/>
                </a:solidFill>
                <a:latin typeface="Arial"/>
              </a:rPr>
              <a:t>INFORME DE GESTION 2008 – 2011</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000" spc="-1" strike="noStrike">
                <a:solidFill>
                  <a:srgbClr val="000000"/>
                </a:solidFill>
                <a:latin typeface="Arial"/>
              </a:rPr>
              <a:t>SECRETARIA DE PLANEACION DEPARTAMENT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55360" y="367920"/>
            <a:ext cx="57214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RENDICION DE CUENTAS DE INFANCIA, ADOLESCENCIA Y JUVENTUD</a:t>
            </a:r>
            <a:endParaRPr b="0" lang="en-US" sz="2800" spc="-1" strike="noStrike">
              <a:solidFill>
                <a:srgbClr val="000000"/>
              </a:solidFill>
              <a:latin typeface="Calibri"/>
            </a:endParaRPr>
          </a:p>
        </p:txBody>
      </p:sp>
      <p:sp>
        <p:nvSpPr>
          <p:cNvPr id="152" name="5 CuadroTexto"/>
          <p:cNvSpPr/>
          <p:nvPr/>
        </p:nvSpPr>
        <p:spPr>
          <a:xfrm>
            <a:off x="250920" y="155412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Coordinación de la elaboración del informe para la rendición pública de Cuentas sobre infancia, adolescencia y Juventud</a:t>
            </a:r>
            <a:endParaRPr b="0" lang="en-US" sz="1800" spc="-1" strike="noStrike">
              <a:solidFill>
                <a:srgbClr val="000000"/>
              </a:solidFill>
              <a:latin typeface="Arial"/>
            </a:endParaRPr>
          </a:p>
        </p:txBody>
      </p:sp>
      <p:pic>
        <p:nvPicPr>
          <p:cNvPr id="153" name="Picture 5" descr=""/>
          <p:cNvPicPr/>
          <p:nvPr/>
        </p:nvPicPr>
        <p:blipFill>
          <a:blip r:embed="rId1"/>
          <a:srcRect l="17325" t="24041" r="19152" b="53282"/>
          <a:stretch/>
        </p:blipFill>
        <p:spPr>
          <a:xfrm>
            <a:off x="0" y="5427720"/>
            <a:ext cx="6754680" cy="1171440"/>
          </a:xfrm>
          <a:prstGeom prst="rect">
            <a:avLst/>
          </a:prstGeom>
          <a:ln w="0">
            <a:noFill/>
          </a:ln>
        </p:spPr>
      </p:pic>
      <p:sp>
        <p:nvSpPr>
          <p:cNvPr id="154" name="6 CuadroTexto"/>
          <p:cNvSpPr/>
          <p:nvPr/>
        </p:nvSpPr>
        <p:spPr>
          <a:xfrm>
            <a:off x="250920" y="2271600"/>
            <a:ext cx="86421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Arial"/>
              </a:rPr>
              <a:t>En el mes de noviembre se lleva a cabo el proceso de Rendición de Cuentas sobre la garantía de los Derechos de la Infancia, la adolescencia y la juventud, como parte de este se analizan 79 indicadores (65 de carácter social y 14 relacionados con el gasto Publico Social) en conjunto con las secretarías de Educación, Integración y Desarrollo Social, Recreación y Deportes, Cultural y la Dirección Territorial de Salud de Cal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84520" y="274320"/>
            <a:ext cx="5249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000000"/>
                </a:solidFill>
                <a:latin typeface="Calibri"/>
              </a:rPr>
              <a:t>OTRAS ACTIVIDADES</a:t>
            </a:r>
            <a:endParaRPr b="0" lang="en-US" sz="3600" spc="-1" strike="noStrike">
              <a:solidFill>
                <a:srgbClr val="000000"/>
              </a:solidFill>
              <a:latin typeface="Calibri"/>
            </a:endParaRPr>
          </a:p>
        </p:txBody>
      </p:sp>
      <p:sp>
        <p:nvSpPr>
          <p:cNvPr id="156" name=""/>
          <p:cNvSpPr txBox="1"/>
          <p:nvPr/>
        </p:nvSpPr>
        <p:spPr>
          <a:xfrm>
            <a:off x="0" y="1600200"/>
            <a:ext cx="8686800" cy="4525920"/>
          </a:xfrm>
          <a:prstGeom prst="rect">
            <a:avLst/>
          </a:prstGeom>
          <a:noFill/>
          <a:ln w="0">
            <a:noFill/>
          </a:ln>
        </p:spPr>
        <p:txBody>
          <a:bodyPr anchor="t">
            <a:normAutofit fontScale="92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articipación en Diferentes (algunos) Juntas y Comités: Los más dinámicos durante el tiempo que ejercí en la Secretaría so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Junta Directiva de INFICALDAS</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Junta Directiva de la Dirección Territorial de Salud (Suplente).</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DFIS – Consejo Departamental de Política Fisca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Conciliació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nsejo de Política Socia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PNIA – Consejo Nacional Profesionales de Ingeniería y Administración.</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sión Regional de Competitividad (Secretaría Técnica)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s para Coordinación y Consolidación de Información a diferentes Organismos y Entes de Control.</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nsejo Departamental de Ciencia y Tecnologí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Calidad</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Atención a la Población Desplazad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Mesa de Primera Infanci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Mesa para la Estrategia de Reducción de la Pobreza</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000000"/>
                </a:solidFill>
                <a:latin typeface="Calibri"/>
              </a:rPr>
              <a:t>Comité de Atención al Ciudadano</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9920" y="274320"/>
            <a:ext cx="5560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PARTICIPACIÓN EN  EL SISTEMA NACIONAL DE REGALÍAS</a:t>
            </a:r>
            <a:endParaRPr b="0" lang="en-US" sz="2800" spc="-1" strike="noStrike">
              <a:solidFill>
                <a:srgbClr val="000000"/>
              </a:solidFill>
              <a:latin typeface="Calibri"/>
            </a:endParaRPr>
          </a:p>
        </p:txBody>
      </p:sp>
      <p:graphicFrame>
        <p:nvGraphicFramePr>
          <p:cNvPr id="158" name=""/>
          <p:cNvGraphicFramePr/>
          <p:nvPr/>
        </p:nvGraphicFramePr>
        <p:xfrm>
          <a:off x="900000" y="1417680"/>
          <a:ext cx="6886800" cy="4460760"/>
        </p:xfrm>
        <a:graphic>
          <a:graphicData uri="http://schemas.openxmlformats.org/drawingml/2006/table">
            <a:tbl>
              <a:tblPr/>
              <a:tblGrid>
                <a:gridCol w="4621320"/>
                <a:gridCol w="2265480"/>
              </a:tblGrid>
              <a:tr h="466560">
                <a:tc gridSpan="2">
                  <a:txBody>
                    <a:bodyPr lIns="68760" rIns="68760" tIns="0" bIns="0" anchor="t">
                      <a:noAutofit/>
                    </a:bodyPr>
                    <a:p>
                      <a:pPr algn="ct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Proyectos a Priorizar por el CODECTI </a:t>
                      </a:r>
                      <a:r>
                        <a:rPr b="0" lang="es-ES_tradnl" sz="1600" spc="-1" strike="noStrike">
                          <a:solidFill>
                            <a:srgbClr val="000000"/>
                          </a:solidFill>
                          <a:latin typeface="Calibri"/>
                          <a:ea typeface="Cambria"/>
                        </a:rPr>
                        <a:t> </a:t>
                      </a:r>
                      <a:r>
                        <a:rPr b="0" lang="es-ES_tradnl" sz="1600" spc="-1" strike="noStrike">
                          <a:solidFill>
                            <a:srgbClr val="000000"/>
                          </a:solidFill>
                          <a:latin typeface="Calibri"/>
                          <a:ea typeface="Times New Roman"/>
                        </a:rPr>
                        <a:t> (10% DE REGALIA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3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PROYECT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VALOR PROYECT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CLUSTE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119.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Biotecnología Agropecuari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3.677.5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24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Biorefinerias Sostenibl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8.0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Salud Nutracéutic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915.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Total Apuestas de Biotecnologí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 14.711.5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Tenderos Digitale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3.560.147.7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COPIPYM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3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4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Telemedicina para  Comunidades Indígenas Eje Cafetero</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1.471.166.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Parque de la Creatividad</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1600" spc="-1" strike="noStrike">
                          <a:solidFill>
                            <a:srgbClr val="000000"/>
                          </a:solidFill>
                          <a:latin typeface="Calibri"/>
                          <a:ea typeface="Cambria"/>
                        </a:rPr>
                        <a:t>$ 2.500.000.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TOTAL  PROYECTO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1600" spc="-1" strike="noStrike">
                          <a:solidFill>
                            <a:srgbClr val="000000"/>
                          </a:solidFill>
                          <a:latin typeface="Calibri"/>
                          <a:ea typeface="Cambria"/>
                        </a:rPr>
                        <a:t>$ 23.542.813.7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446040" y="5086440"/>
          <a:ext cx="7201080" cy="1008000"/>
        </p:xfrm>
        <a:graphic>
          <a:graphicData uri="http://schemas.openxmlformats.org/drawingml/2006/table">
            <a:tbl>
              <a:tblPr/>
              <a:tblGrid>
                <a:gridCol w="4859280"/>
                <a:gridCol w="2341800"/>
              </a:tblGrid>
              <a:tr h="503280">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Anillo Vial de la Subregión Centro Su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 230.346.00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Estudio Vía Caracas – Pacífic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000" spc="-1" strike="noStrike">
                          <a:solidFill>
                            <a:srgbClr val="000000"/>
                          </a:solidFill>
                          <a:latin typeface="Calibri"/>
                          <a:ea typeface="Cambria"/>
                        </a:rPr>
                        <a:t>$  15.000.000.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Rectangle 1"/>
          <p:cNvSpPr/>
          <p:nvPr/>
        </p:nvSpPr>
        <p:spPr>
          <a:xfrm>
            <a:off x="684360" y="1548000"/>
            <a:ext cx="770400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_tradnl" sz="2400" spc="-1" strike="noStrike">
                <a:solidFill>
                  <a:srgbClr val="000000"/>
                </a:solidFill>
                <a:latin typeface="Calibri"/>
              </a:rPr>
              <a:t>PROYECTOS DE  DESARROLLO REGIONAL CON REGALIAS.</a:t>
            </a:r>
            <a:endParaRPr b="0" lang="en-US" sz="2400" spc="-1" strike="noStrike">
              <a:solidFill>
                <a:srgbClr val="000000"/>
              </a:solidFill>
              <a:latin typeface="Arial"/>
            </a:endParaRPr>
          </a:p>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400" spc="-1" strike="noStrike">
                <a:solidFill>
                  <a:srgbClr val="000000"/>
                </a:solidFill>
                <a:latin typeface="Calibri"/>
              </a:rPr>
              <a:t>Con relaci</a:t>
            </a:r>
            <a:r>
              <a:rPr b="0" lang="es-ES_tradnl" sz="2400" spc="-1" strike="noStrike">
                <a:solidFill>
                  <a:srgbClr val="000000"/>
                </a:solidFill>
                <a:latin typeface="Arial"/>
              </a:rPr>
              <a:t>ó</a:t>
            </a:r>
            <a:r>
              <a:rPr b="0" lang="es-ES_tradnl" sz="2400" spc="-1" strike="noStrike">
                <a:solidFill>
                  <a:srgbClr val="000000"/>
                </a:solidFill>
                <a:latin typeface="Calibri"/>
              </a:rPr>
              <a:t>n al tema de Regal</a:t>
            </a:r>
            <a:r>
              <a:rPr b="0" lang="es-ES_tradnl" sz="2400" spc="-1" strike="noStrike">
                <a:solidFill>
                  <a:srgbClr val="000000"/>
                </a:solidFill>
                <a:latin typeface="Arial"/>
              </a:rPr>
              <a:t>í</a:t>
            </a:r>
            <a:r>
              <a:rPr b="0" lang="es-ES_tradnl" sz="2400" spc="-1" strike="noStrike">
                <a:solidFill>
                  <a:srgbClr val="000000"/>
                </a:solidFill>
                <a:latin typeface="Calibri"/>
              </a:rPr>
              <a:t>as se ha realizado diferentes reuniones en el marco de la Comisi</a:t>
            </a:r>
            <a:r>
              <a:rPr b="0" lang="es-ES_tradnl" sz="2400" spc="-1" strike="noStrike">
                <a:solidFill>
                  <a:srgbClr val="000000"/>
                </a:solidFill>
                <a:latin typeface="Arial"/>
              </a:rPr>
              <a:t>ó</a:t>
            </a:r>
            <a:r>
              <a:rPr b="0" lang="es-ES_tradnl" sz="2400" spc="-1" strike="noStrike">
                <a:solidFill>
                  <a:srgbClr val="000000"/>
                </a:solidFill>
                <a:latin typeface="Calibri"/>
              </a:rPr>
              <a:t>n Regional de Competitividad, en la cual se ha discutido diferentes proyectos de Inter</a:t>
            </a:r>
            <a:r>
              <a:rPr b="0" lang="es-ES_tradnl" sz="2400" spc="-1" strike="noStrike">
                <a:solidFill>
                  <a:srgbClr val="000000"/>
                </a:solidFill>
                <a:latin typeface="Arial"/>
              </a:rPr>
              <a:t>é</a:t>
            </a:r>
            <a:r>
              <a:rPr b="0" lang="es-ES_tradnl" sz="2400" spc="-1" strike="noStrike">
                <a:solidFill>
                  <a:srgbClr val="000000"/>
                </a:solidFill>
                <a:latin typeface="Calibri"/>
              </a:rPr>
              <a:t>s Departamental y Regional.</a:t>
            </a:r>
            <a:endParaRPr b="0" lang="en-US" sz="2400" spc="-1" strike="noStrike">
              <a:solidFill>
                <a:srgbClr val="000000"/>
              </a:solidFill>
              <a:latin typeface="Arial"/>
            </a:endParaRPr>
          </a:p>
          <a:p>
            <a:pPr algn="just">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just">
              <a:lnSpc>
                <a:spcPct val="100000"/>
              </a:lnSpc>
              <a:tabLst>
                <a:tab algn="l" pos="0"/>
                <a:tab algn="ctr" pos="2637000"/>
                <a:tab algn="r" pos="527364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_tradnl" sz="2400" spc="-1" strike="noStrike">
                <a:solidFill>
                  <a:srgbClr val="000000"/>
                </a:solidFill>
                <a:latin typeface="Calibri"/>
              </a:rPr>
              <a:t>En el Departamento de Caldas se ha priorizado los siguientes proyectos de Desarrollo Regional:</a:t>
            </a:r>
            <a:endParaRPr b="0" lang="en-US" sz="2400" spc="-1" strike="noStrike">
              <a:solidFill>
                <a:srgbClr val="000000"/>
              </a:solidFill>
              <a:latin typeface="Arial"/>
            </a:endParaRPr>
          </a:p>
        </p:txBody>
      </p:sp>
      <p:sp>
        <p:nvSpPr>
          <p:cNvPr id="161" name="PlaceHolder 1"/>
          <p:cNvSpPr>
            <a:spLocks noGrp="1"/>
          </p:cNvSpPr>
          <p:nvPr>
            <p:ph type="title"/>
          </p:nvPr>
        </p:nvSpPr>
        <p:spPr>
          <a:xfrm>
            <a:off x="1429920" y="274320"/>
            <a:ext cx="5560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PARTICIPACIÓN EN  EL SISTEMA NACIONAL DE REGALÍ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63"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55720" y="274320"/>
            <a:ext cx="5383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CONCEPTO GENERAL</a:t>
            </a:r>
            <a:endParaRPr b="0" lang="en-US" sz="4000" spc="-1" strike="noStrike">
              <a:solidFill>
                <a:srgbClr val="000000"/>
              </a:solidFill>
              <a:latin typeface="Calibri"/>
            </a:endParaRPr>
          </a:p>
        </p:txBody>
      </p:sp>
      <p:sp>
        <p:nvSpPr>
          <p:cNvPr id="134" name=""/>
          <p:cNvSpPr txBox="1"/>
          <p:nvPr/>
        </p:nvSpPr>
        <p:spPr>
          <a:xfrm>
            <a:off x="457200" y="1600200"/>
            <a:ext cx="8229600" cy="3797280"/>
          </a:xfrm>
          <a:prstGeom prst="rect">
            <a:avLst/>
          </a:prstGeom>
          <a:noFill/>
          <a:ln w="0">
            <a:noFill/>
          </a:ln>
        </p:spPr>
        <p:txBody>
          <a:bodyPr anchor="t">
            <a:normAutofit/>
          </a:bodyPr>
          <a:p>
            <a:pPr marL="92160" indent="1116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La Secretaría de Planeación Departamental se caracteriza por la transversalidad de sus acciones en todos los sectores que hacen parte de la Gobernación de Caldas y por su factor determinante al momento de tomar decisiones que redunden en el logro de las metas impuestas en el plan de desarroll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274320"/>
            <a:ext cx="5573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GERENCIA DE CALIDAD</a:t>
            </a:r>
            <a:endParaRPr b="0" lang="en-US" sz="4000" spc="-1" strike="noStrike">
              <a:solidFill>
                <a:srgbClr val="000000"/>
              </a:solidFill>
              <a:latin typeface="Calibri"/>
            </a:endParaRPr>
          </a:p>
        </p:txBody>
      </p:sp>
      <p:pic>
        <p:nvPicPr>
          <p:cNvPr id="136" name="Picture 2" descr=""/>
          <p:cNvPicPr/>
          <p:nvPr/>
        </p:nvPicPr>
        <p:blipFill>
          <a:blip r:embed="rId1"/>
          <a:stretch/>
        </p:blipFill>
        <p:spPr>
          <a:xfrm>
            <a:off x="2411280" y="5445000"/>
            <a:ext cx="1028880" cy="1003320"/>
          </a:xfrm>
          <a:prstGeom prst="rect">
            <a:avLst/>
          </a:prstGeom>
          <a:ln w="0">
            <a:noFill/>
          </a:ln>
        </p:spPr>
      </p:pic>
      <p:pic>
        <p:nvPicPr>
          <p:cNvPr id="137" name="Picture 3" descr=""/>
          <p:cNvPicPr/>
          <p:nvPr/>
        </p:nvPicPr>
        <p:blipFill>
          <a:blip r:embed="rId2"/>
          <a:stretch/>
        </p:blipFill>
        <p:spPr>
          <a:xfrm>
            <a:off x="1476360" y="5373720"/>
            <a:ext cx="865080" cy="1150920"/>
          </a:xfrm>
          <a:prstGeom prst="rect">
            <a:avLst/>
          </a:prstGeom>
          <a:ln w="0">
            <a:noFill/>
          </a:ln>
        </p:spPr>
      </p:pic>
      <p:pic>
        <p:nvPicPr>
          <p:cNvPr id="138" name="Picture 4" descr=""/>
          <p:cNvPicPr/>
          <p:nvPr/>
        </p:nvPicPr>
        <p:blipFill>
          <a:blip r:embed="rId3"/>
          <a:stretch/>
        </p:blipFill>
        <p:spPr>
          <a:xfrm>
            <a:off x="250920" y="5445000"/>
            <a:ext cx="1199880" cy="1079640"/>
          </a:xfrm>
          <a:prstGeom prst="rect">
            <a:avLst/>
          </a:prstGeom>
          <a:ln w="0">
            <a:noFill/>
          </a:ln>
        </p:spPr>
      </p:pic>
      <p:sp>
        <p:nvSpPr>
          <p:cNvPr id="139" name="9 CuadroTexto"/>
          <p:cNvSpPr/>
          <p:nvPr/>
        </p:nvSpPr>
        <p:spPr>
          <a:xfrm>
            <a:off x="324000" y="1413000"/>
            <a:ext cx="85690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 sz="2000" spc="-1" strike="noStrike">
                <a:solidFill>
                  <a:srgbClr val="000000"/>
                </a:solidFill>
                <a:latin typeface="Calibri"/>
              </a:rPr>
              <a:t>A</a:t>
            </a:r>
            <a:r>
              <a:rPr b="1" lang="es-ES" sz="2000" spc="-1" strike="noStrike">
                <a:solidFill>
                  <a:srgbClr val="000000"/>
                </a:solidFill>
                <a:latin typeface="Arial"/>
              </a:rPr>
              <a:t>ñ</a:t>
            </a:r>
            <a:r>
              <a:rPr b="1" lang="es-ES" sz="2000" spc="-1" strike="noStrike">
                <a:solidFill>
                  <a:srgbClr val="000000"/>
                </a:solidFill>
                <a:latin typeface="Calibri"/>
              </a:rPr>
              <a:t>o 2009</a:t>
            </a:r>
            <a:r>
              <a:rPr b="0" lang="es-CO" sz="2000" spc="-1" strike="noStrike">
                <a:solidFill>
                  <a:srgbClr val="000000"/>
                </a:solidFill>
                <a:latin typeface="Calibri"/>
              </a:rPr>
              <a:t>: Actualizaci</a:t>
            </a:r>
            <a:r>
              <a:rPr b="0" lang="es-CO" sz="2000" spc="-1" strike="noStrike">
                <a:solidFill>
                  <a:srgbClr val="000000"/>
                </a:solidFill>
                <a:latin typeface="Arial"/>
              </a:rPr>
              <a:t>ó</a:t>
            </a:r>
            <a:r>
              <a:rPr b="0" lang="es-CO" sz="2000" spc="-1" strike="noStrike">
                <a:solidFill>
                  <a:srgbClr val="000000"/>
                </a:solidFill>
                <a:latin typeface="Calibri"/>
              </a:rPr>
              <a:t>n ISO 2008 y Certificaci</a:t>
            </a:r>
            <a:r>
              <a:rPr b="0" lang="es-CO" sz="2000" spc="-1" strike="noStrike">
                <a:solidFill>
                  <a:srgbClr val="000000"/>
                </a:solidFill>
                <a:latin typeface="Arial"/>
              </a:rPr>
              <a:t>ó</a:t>
            </a:r>
            <a:r>
              <a:rPr b="0" lang="es-CO" sz="2000" spc="-1" strike="noStrike">
                <a:solidFill>
                  <a:srgbClr val="000000"/>
                </a:solidFill>
                <a:latin typeface="Calibri"/>
              </a:rPr>
              <a:t>n  NTCGP 1000-2001. </a:t>
            </a:r>
            <a:endParaRPr b="0" lang="en-US" sz="2000" spc="-1" strike="noStrike">
              <a:solidFill>
                <a:srgbClr val="000000"/>
              </a:solidFill>
              <a:latin typeface="Arial"/>
            </a:endParaRPr>
          </a:p>
          <a:p>
            <a:pPr algn="just">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O" sz="2000" spc="-1" strike="noStrike">
                <a:solidFill>
                  <a:srgbClr val="000000"/>
                </a:solidFill>
                <a:latin typeface="Arial"/>
              </a:rPr>
              <a:t>Añ</a:t>
            </a:r>
            <a:r>
              <a:rPr b="1" lang="es-CO" sz="2000" spc="-1" strike="noStrike">
                <a:solidFill>
                  <a:srgbClr val="000000"/>
                </a:solidFill>
                <a:latin typeface="Calibri"/>
              </a:rPr>
              <a:t>o 2010 y 2011</a:t>
            </a:r>
            <a:r>
              <a:rPr b="0" lang="es-CO" sz="2000" spc="-1" strike="noStrike">
                <a:solidFill>
                  <a:srgbClr val="000000"/>
                </a:solidFill>
                <a:latin typeface="Calibri"/>
              </a:rPr>
              <a:t>: Seguimiento y Actualizaci</a:t>
            </a:r>
            <a:r>
              <a:rPr b="0" lang="es-CO" sz="2000" spc="-1" strike="noStrike">
                <a:solidFill>
                  <a:srgbClr val="000000"/>
                </a:solidFill>
                <a:latin typeface="Arial"/>
              </a:rPr>
              <a:t>ó</a:t>
            </a:r>
            <a:r>
              <a:rPr b="0" lang="es-CO" sz="2000" spc="-1" strike="noStrike">
                <a:solidFill>
                  <a:srgbClr val="000000"/>
                </a:solidFill>
                <a:latin typeface="Calibri"/>
              </a:rPr>
              <a:t>n de la NTCGP 1000-2009.</a:t>
            </a:r>
            <a:endParaRPr b="0" lang="en-US" sz="2000" spc="-1" strike="noStrike">
              <a:solidFill>
                <a:srgbClr val="000000"/>
              </a:solidFill>
              <a:latin typeface="Arial"/>
            </a:endParaRPr>
          </a:p>
          <a:p>
            <a:pPr algn="just">
              <a:lnSpc>
                <a:spcPct val="100000"/>
              </a:lnSpc>
              <a:tabLst>
                <a:tab algn="l" pos="0"/>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O" sz="2000" spc="-1" strike="noStrike">
                <a:solidFill>
                  <a:srgbClr val="000000"/>
                </a:solidFill>
                <a:latin typeface="Calibri"/>
              </a:rPr>
              <a:t>Acciones Permanentes</a:t>
            </a:r>
            <a:r>
              <a:rPr b="0" lang="es-CO"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y seguimiento con la alta direcci</a:t>
            </a:r>
            <a:r>
              <a:rPr b="0" lang="es-CO" sz="2000" spc="-1" strike="noStrike">
                <a:solidFill>
                  <a:srgbClr val="000000"/>
                </a:solidFill>
                <a:latin typeface="Arial"/>
              </a:rPr>
              <a:t>ó</a:t>
            </a:r>
            <a:r>
              <a:rPr b="0" lang="es-CO" sz="2000" spc="-1" strike="noStrike">
                <a:solidFill>
                  <a:srgbClr val="000000"/>
                </a:solidFill>
                <a:latin typeface="Calibri"/>
              </a:rPr>
              <a:t>n acerca del desempe</a:t>
            </a:r>
            <a:r>
              <a:rPr b="0" lang="es-CO" sz="2000" spc="-1" strike="noStrike">
                <a:solidFill>
                  <a:srgbClr val="000000"/>
                </a:solidFill>
                <a:latin typeface="Arial"/>
              </a:rPr>
              <a:t>ñ</a:t>
            </a:r>
            <a:r>
              <a:rPr b="0" lang="es-CO" sz="2000" spc="-1" strike="noStrike">
                <a:solidFill>
                  <a:srgbClr val="000000"/>
                </a:solidFill>
                <a:latin typeface="Calibri"/>
              </a:rPr>
              <a:t>o  del sistema.</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constante con el grupo representante  de calidad y las auditoras del ICONTEC en el tema relacionado con la auditoria de Seguimiento.</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Acompa</a:t>
            </a:r>
            <a:r>
              <a:rPr b="0" lang="es-CO" sz="2000" spc="-1" strike="noStrike">
                <a:solidFill>
                  <a:srgbClr val="000000"/>
                </a:solidFill>
                <a:latin typeface="Arial"/>
              </a:rPr>
              <a:t>ñ</a:t>
            </a:r>
            <a:r>
              <a:rPr b="0" lang="es-CO" sz="2000" spc="-1" strike="noStrike">
                <a:solidFill>
                  <a:srgbClr val="000000"/>
                </a:solidFill>
                <a:latin typeface="Calibri"/>
              </a:rPr>
              <a:t>amiento y soporte en la auditoria de seguimiento.</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a:t>
            </a:r>
            <a:r>
              <a:rPr b="0" lang="es-CO" sz="2000" spc="-1" strike="noStrike">
                <a:solidFill>
                  <a:srgbClr val="000000"/>
                </a:solidFill>
                <a:latin typeface="Arial"/>
              </a:rPr>
              <a:t>ó</a:t>
            </a:r>
            <a:r>
              <a:rPr b="0" lang="es-CO" sz="2000" spc="-1" strike="noStrike">
                <a:solidFill>
                  <a:srgbClr val="000000"/>
                </a:solidFill>
                <a:latin typeface="Calibri"/>
              </a:rPr>
              <a:t>n y participaci</a:t>
            </a:r>
            <a:r>
              <a:rPr b="0" lang="es-CO" sz="2000" spc="-1" strike="noStrike">
                <a:solidFill>
                  <a:srgbClr val="000000"/>
                </a:solidFill>
                <a:latin typeface="Arial"/>
              </a:rPr>
              <a:t>ó</a:t>
            </a:r>
            <a:r>
              <a:rPr b="0" lang="es-CO" sz="2000" spc="-1" strike="noStrike">
                <a:solidFill>
                  <a:srgbClr val="000000"/>
                </a:solidFill>
                <a:latin typeface="Calibri"/>
              </a:rPr>
              <a:t>n activa en la actualizaci</a:t>
            </a:r>
            <a:r>
              <a:rPr b="0" lang="es-CO" sz="2000" spc="-1" strike="noStrike">
                <a:solidFill>
                  <a:srgbClr val="000000"/>
                </a:solidFill>
                <a:latin typeface="Arial"/>
              </a:rPr>
              <a:t>ó</a:t>
            </a:r>
            <a:r>
              <a:rPr b="0" lang="es-CO" sz="2000" spc="-1" strike="noStrike">
                <a:solidFill>
                  <a:srgbClr val="000000"/>
                </a:solidFill>
                <a:latin typeface="Calibri"/>
              </a:rPr>
              <a:t>n del </a:t>
            </a:r>
            <a:r>
              <a:rPr b="0" lang="es-CO" sz="2000" spc="-1" strike="noStrike" u="sng">
                <a:solidFill>
                  <a:srgbClr val="000000"/>
                </a:solidFill>
                <a:uFillTx/>
                <a:latin typeface="Calibri"/>
              </a:rPr>
              <a:t>mapa de riesgos por procesos.</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ón y participación activa en la creación del </a:t>
            </a:r>
            <a:r>
              <a:rPr b="0" lang="es-CO" sz="2000" spc="-1" strike="noStrike" u="sng">
                <a:solidFill>
                  <a:srgbClr val="000000"/>
                </a:solidFill>
                <a:uFillTx/>
                <a:latin typeface="Calibri"/>
              </a:rPr>
              <a:t>mapa de riesgos institucional.</a:t>
            </a:r>
            <a:endParaRPr b="0" lang="en-US" sz="2000" spc="-1" strike="noStrike">
              <a:solidFill>
                <a:srgbClr val="000000"/>
              </a:solidFill>
              <a:latin typeface="Arial"/>
            </a:endParaRPr>
          </a:p>
          <a:p>
            <a:pPr algn="just">
              <a:lnSpc>
                <a:spcPct val="100000"/>
              </a:lnSpc>
              <a:buClr>
                <a:srgbClr val="000000"/>
              </a:buClr>
              <a:buFont typeface="Calibri"/>
              <a:buChar char="•"/>
              <a:tabLst>
                <a:tab algn="l" pos="45720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O" sz="2000" spc="-1" strike="noStrike">
                <a:solidFill>
                  <a:srgbClr val="000000"/>
                </a:solidFill>
                <a:latin typeface="Calibri"/>
              </a:rPr>
              <a:t>Coordinación y participación activa en la actualización del mapa de proces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04800" y="274320"/>
            <a:ext cx="5810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Calibri"/>
              </a:rPr>
              <a:t>APOYO AL FORTALECIMIENTO FISCAL Y FINANCIERO DE LOS MUNICIPIOS DE CALDAS (UNIDAD DE DESCENTRALIZACION)</a:t>
            </a:r>
            <a:endParaRPr b="0" lang="en-US" sz="2400" spc="-1" strike="noStrike">
              <a:solidFill>
                <a:srgbClr val="000000"/>
              </a:solidFill>
              <a:latin typeface="Calibri"/>
            </a:endParaRPr>
          </a:p>
        </p:txBody>
      </p:sp>
      <p:sp>
        <p:nvSpPr>
          <p:cNvPr id="141" name="6 CuadroTexto"/>
          <p:cNvSpPr/>
          <p:nvPr/>
        </p:nvSpPr>
        <p:spPr>
          <a:xfrm>
            <a:off x="250920" y="1413000"/>
            <a:ext cx="8424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sesoría y acompañamiento en el proceso de revisión y estudio de los escenarios financieros de los municipios y su viabilidad financiera, entregando a cada municipio el marco fiscal de mediano plazo (</a:t>
            </a:r>
            <a:r>
              <a:rPr b="1" lang="es-ES_tradnl" sz="1800" spc="-1" strike="noStrike">
                <a:solidFill>
                  <a:srgbClr val="000000"/>
                </a:solidFill>
                <a:latin typeface="Arial"/>
              </a:rPr>
              <a:t>En la unidad de Descentralización reposan el Marco Fiscal de Mediano Plazo y escenarios financieros de los 27 municipios, con corte a 31 de diciembre de 2010).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oyo al fortalecimiento fiscal y financiero de los municipios de Caldas, a través de asesoría y asistencia técnica, para determinar su situación fiscal y financiera.(</a:t>
            </a:r>
            <a:r>
              <a:rPr b="1" lang="es-ES_tradnl" sz="1800" spc="-1" strike="noStrike">
                <a:solidFill>
                  <a:srgbClr val="000000"/>
                </a:solidFill>
                <a:latin typeface="Arial"/>
              </a:rPr>
              <a:t>En la Unidad de Descentralización, se encuentra el análisis de la evolución histórica desde el año 2004. Igualmente la Evaluación del Desempeño integral del los municipios 2007, 2008, 2009 y 2010).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oyo a la Actualización Catastral de los municipios. Durante el año 2009 se acogieron a este proceso los municipios de Chinchiná, Belalcazar y Manzanares, aportándoles la suma de 150 millones de pesos.</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471600" y="546120"/>
            <a:ext cx="6737400" cy="605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59040" y="274320"/>
            <a:ext cx="51465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PLANES DE ORDENAMIENTO TERRITORIAL (UNIDAD DE DESARROLLO REGIONAL)</a:t>
            </a:r>
            <a:endParaRPr b="0" lang="en-US" sz="3200" spc="-1" strike="noStrike">
              <a:solidFill>
                <a:srgbClr val="000000"/>
              </a:solidFill>
              <a:latin typeface="Calibri"/>
            </a:endParaRPr>
          </a:p>
        </p:txBody>
      </p:sp>
      <p:sp>
        <p:nvSpPr>
          <p:cNvPr id="144" name=""/>
          <p:cNvSpPr txBox="1"/>
          <p:nvPr/>
        </p:nvSpPr>
        <p:spPr>
          <a:xfrm>
            <a:off x="457200" y="1599840"/>
            <a:ext cx="8229600" cy="3768840"/>
          </a:xfrm>
          <a:prstGeom prst="rect">
            <a:avLst/>
          </a:prstGeom>
          <a:noFill/>
          <a:ln w="0">
            <a:noFill/>
          </a:ln>
        </p:spPr>
        <p:txBody>
          <a:bodyPr anchor="t">
            <a:normAutofit/>
          </a:bodyPr>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Conformación y Entrega de Expedientes Municipales, documento que contiene: determinantes y elementos articuladores del ordenamiento territorial regional para los municipios involucrados.</a:t>
            </a:r>
            <a:endParaRPr b="0" lang="en-US" sz="2000" spc="-1" strike="noStrike">
              <a:solidFill>
                <a:srgbClr val="000000"/>
              </a:solidFill>
              <a:latin typeface="Calibri"/>
            </a:endParaRPr>
          </a:p>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Como parte del apoyo a las administraciones municipales, se realiza un convenio interadministrativo con Corpocaldas el cual tiene como objetivo brindar asistencia técnica en el seguimiento y formulación de los Planes de Ordenamiento Territorial y Planes de acción para la incorporación del riesgo en los POT.</a:t>
            </a:r>
            <a:endParaRPr b="0" lang="en-US" sz="2000" spc="-1" strike="noStrike">
              <a:solidFill>
                <a:srgbClr val="000000"/>
              </a:solidFill>
              <a:latin typeface="Calibri"/>
            </a:endParaRPr>
          </a:p>
          <a:p>
            <a:pPr marL="3240" indent="-324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Calibri"/>
              </a:rPr>
              <a:t>De otro lado desde la Unidad de Desarrollo Regional se brindó acompañamiento y apoyo al municipio de Marmato, en el proceso de reubicación del casco urba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5884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BANCO DE PROYECTOS DE INVERSION DEPARTAMENTAL (UNIDAD DE INVERSIONES PUBLICAS)</a:t>
            </a:r>
            <a:endParaRPr b="0" lang="en-US" sz="28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la Unidad de Inversiones Públicas, se dio acompañamiento en diferentes temas administrativos de competencia municipal, a través de capacitación en proyectos a través de la MGA –Metodología General Ajustada- y SSEPI –Sistema de Seguimiento de Proyectos de Inversión.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Está en proceso de evaluación para el 2011, la alimentación del SSEPI en el departamento, a partir de los proyectos de 2008, 2009, 2010 y 2011, como parte de un</a:t>
            </a:r>
            <a:r>
              <a:rPr b="1" lang="es-ES_tradnl" sz="1800" spc="-1" strike="noStrike">
                <a:solidFill>
                  <a:srgbClr val="000000"/>
                </a:solidFill>
                <a:latin typeface="Calibri"/>
              </a:rPr>
              <a:t> </a:t>
            </a:r>
            <a:r>
              <a:rPr b="0" lang="es-ES_tradnl" sz="1800" spc="-1" strike="noStrike">
                <a:solidFill>
                  <a:srgbClr val="000000"/>
                </a:solidFill>
                <a:latin typeface="Calibri"/>
              </a:rPr>
              <a:t>proceso de mejoramiento en la unidad. Se tienen los soportes de la información suministrada por las Secretarías, que permite ir avanzando en el cierre de los proyectos en cada anualidad, y su integración como soporte en el SIG –Sistema Integrado de Gestión-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e recibieron durante el año 2010 un total de 395 proyectos.</a:t>
            </a:r>
            <a:r>
              <a:rPr b="1" lang="es-ES_tradnl" sz="1800" spc="-1" strike="noStrike">
                <a:solidFill>
                  <a:srgbClr val="000000"/>
                </a:solidFill>
                <a:latin typeface="Calibri"/>
              </a:rPr>
              <a:t> </a:t>
            </a:r>
            <a:r>
              <a:rPr b="0" lang="es-ES_tradnl" sz="1800" spc="-1" strike="noStrike">
                <a:solidFill>
                  <a:srgbClr val="000000"/>
                </a:solidFill>
                <a:latin typeface="Calibri"/>
              </a:rPr>
              <a:t>En lo corrido del año 2011, y a partir de la aprobación del Plan de Acción en Consejo de Gobierno, se han recibido y aprobado 271 proyect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81200" y="274320"/>
            <a:ext cx="529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SISTEMAS DE INFORMACION PARA LA PLANEACION</a:t>
            </a:r>
            <a:endParaRPr b="0" lang="en-US" sz="3200" spc="-1" strike="noStrike">
              <a:solidFill>
                <a:srgbClr val="000000"/>
              </a:solidFill>
              <a:latin typeface="Calibri"/>
            </a:endParaRPr>
          </a:p>
        </p:txBody>
      </p:sp>
      <p:sp>
        <p:nvSpPr>
          <p:cNvPr id="148" name=""/>
          <p:cNvSpPr txBox="1"/>
          <p:nvPr/>
        </p:nvSpPr>
        <p:spPr>
          <a:xfrm>
            <a:off x="0" y="1379160"/>
            <a:ext cx="9144000" cy="4151160"/>
          </a:xfrm>
          <a:prstGeom prst="rect">
            <a:avLst/>
          </a:prstGeom>
          <a:noFill/>
          <a:ln w="0">
            <a:noFill/>
          </a:ln>
        </p:spPr>
        <p:txBody>
          <a:bodyPr anchor="t">
            <a:normAutofit fontScale="96000"/>
          </a:bodyPr>
          <a:p>
            <a:pPr marL="2880" indent="-28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rta Estadística: se trabajó en el procesamiento de la  información  para la elaboración de la carta estadística del año 2010-2011, llegando al diseño e impresión de la misma</a:t>
            </a:r>
            <a:endParaRPr b="0" lang="en-US" sz="1600" spc="-1" strike="noStrike">
              <a:solidFill>
                <a:srgbClr val="000000"/>
              </a:solidFill>
              <a:latin typeface="Calibri"/>
            </a:endParaRPr>
          </a:p>
          <a:p>
            <a:pPr marL="2880" indent="-28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Adquisición de base de datos (DANE)</a:t>
            </a:r>
            <a:r>
              <a:rPr b="0" lang="es-ES_tradnl" sz="1600" spc="-1" strike="noStrike">
                <a:solidFill>
                  <a:srgbClr val="000000"/>
                </a:solidFill>
                <a:latin typeface="Calibri"/>
              </a:rPr>
              <a:t>:Se adquirieron y actualizaron las siguientes bases de datos, a saber:</a:t>
            </a:r>
            <a:endParaRPr b="0" lang="en-US" sz="16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Encuesta Ingresos y Gastos 2006 – 2007</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Gran Encuesta Integrada de Hogares para Áreas Metropolitanas,  II, III y IV formato SAS. Año 2008 por trimestre</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A.M año 2007</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xportaciones anuales 2008 y 2009 / I, II, III y IV  trimestre, Caldas</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Bases de Datos de la Gran Encuesta Integrada de Hogares Nacional,  II, III y IV formato SAS. Año 2008 por trimestre.</a:t>
            </a:r>
            <a:endParaRPr b="0" lang="en-US" sz="1400" spc="-1" strike="noStrike">
              <a:solidFill>
                <a:srgbClr val="000000"/>
              </a:solidFill>
              <a:latin typeface="Calibri"/>
            </a:endParaRPr>
          </a:p>
          <a:p>
            <a:pPr lvl="1" marL="173520" indent="-1980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Importaciones anuales 2008 y 2009/ I, II, III y IV trimestre Caldas</a:t>
            </a:r>
            <a:endParaRPr b="0" lang="en-US" sz="1400" spc="-1" strike="noStrike">
              <a:solidFill>
                <a:srgbClr val="000000"/>
              </a:solidFill>
              <a:latin typeface="Calibri"/>
            </a:endParaRPr>
          </a:p>
          <a:p>
            <a:pPr lvl="1" marL="173520" indent="-19800"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173520" indent="-1980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La Coordinación departamental del SISBEN, en cabeza de la Secretaría de Planeación,  debe  realizar  el proceso de  revisión a  las bases de datos, que deben enviar  los municipios, a través de los aplicativos establecidos por el DNP;  este  proceso se debe efectuar tres veces al año,  para su posterior envío al DNP (consolidado),  donde  realizan el proceso de validación, para la certificación de las bases de datos nacionales del SISBEN.</a:t>
            </a:r>
            <a:endParaRPr b="0" lang="en-US" sz="1600" spc="-1" strike="noStrike">
              <a:solidFill>
                <a:srgbClr val="000000"/>
              </a:solidFill>
              <a:latin typeface="Calibri"/>
            </a:endParaRPr>
          </a:p>
          <a:p>
            <a:pPr lvl="1" marL="173520" indent="-1980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Se hace seguimiento trimestral al avance de las metas del Plan de Desarrollo Departament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43200" y="274320"/>
            <a:ext cx="5045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000000"/>
                </a:solidFill>
                <a:latin typeface="Calibri"/>
              </a:rPr>
              <a:t>OTRAS GESTIONES</a:t>
            </a:r>
            <a:endParaRPr b="0" lang="en-US" sz="4000" spc="-1" strike="noStrike">
              <a:solidFill>
                <a:srgbClr val="000000"/>
              </a:solidFill>
              <a:latin typeface="Calibri"/>
            </a:endParaRPr>
          </a:p>
        </p:txBody>
      </p:sp>
      <p:sp>
        <p:nvSpPr>
          <p:cNvPr id="150" name=""/>
          <p:cNvSpPr txBox="1"/>
          <p:nvPr/>
        </p:nvSpPr>
        <p:spPr>
          <a:xfrm>
            <a:off x="-360" y="1424160"/>
            <a:ext cx="8862840" cy="4525920"/>
          </a:xfrm>
          <a:prstGeom prst="rect">
            <a:avLst/>
          </a:prstGeom>
          <a:noFill/>
          <a:ln w="0">
            <a:noFill/>
          </a:ln>
        </p:spPr>
        <p:txBody>
          <a:bodyPr anchor="t">
            <a:normAutofit/>
          </a:bodyPr>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El Gobierno Departamental firmó el pacto por la transparencia, diseñado por el programa Presidencial de lucha contra la corrupción de la vicepresidencia de la República; y, si bien es abordado por la Secretaría Privada de la Gobernación, desde la Secretaría de Planeación se presta todo el apoyo técnico y operativo.</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ada año, dentro de los primeros tres (3) meses, de debe presentar ante el Tribunal Contencioso Administrativo un informe sobre el cumplimiento de la  Sentencia de Acción Popular con radicado No.2002-0968-4 contra el municipio de Manizales.</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Según Sentencia de Acción Popular con radicado 2008-0833, en contra del municipio de Villamaría, la Secretaría de Planeación forma parte de la Comisión delegada por el Tribunal Contencioso para hacerle seguimiento al cumplimiento</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Calibri"/>
              </a:rPr>
              <a:t>Se participa del Comité departamental de Gobierno en línea, coordinado por la Secretaría Privada.</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Coordinación de todo el proceso de recolección, organización, ajuste, envío y posterior verificación de la información solicitada por Transparencia por Colombia.</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oordinación integral y apoyo </a:t>
            </a:r>
            <a:r>
              <a:rPr b="0" lang="es-MX" sz="1600" spc="-1" strike="noStrike">
                <a:solidFill>
                  <a:srgbClr val="000000"/>
                </a:solidFill>
                <a:latin typeface="Calibri"/>
              </a:rPr>
              <a:t>logístico para la realización de la rendición pública de cuentas de la Administración Departamental </a:t>
            </a:r>
            <a:endParaRPr b="0" lang="en-US" sz="1600" spc="-1" strike="noStrike">
              <a:solidFill>
                <a:srgbClr val="000000"/>
              </a:solidFill>
              <a:latin typeface="Calibri"/>
            </a:endParaRPr>
          </a:p>
          <a:p>
            <a:pPr marL="3240" indent="-324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3:09:53Z</dcterms:modified>
  <cp:revision>22</cp:revision>
  <dc:subject/>
  <dc:title>Slide 1</dc:title>
</cp:coreProperties>
</file>