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ECRETARÍA DE HACIENDA DEPARTAM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9BD2A3-1572-4417-9D0B-9F40EC36CCD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3 Marcador de número de diapositiva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D97686-DDEF-475D-B5F5-1C4F797DD69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4 Marcador de encabezado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CRETARÍA DE HACIENDA DEPARTAM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6EF9-1199-4FEA-8202-1A342FD58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FFF6-684B-4647-89FB-743B4D6C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10C5-EA26-4493-B634-6BD0D2EF2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F7C4-4955-4EF8-9A71-15C4F8D2D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7DD4-262E-40A3-B01F-0DACBB7B2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9615-24B4-48C4-957D-4D5BFDE6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29CD-93BE-4331-8C52-B2532506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FC2B-434C-4909-994E-42987953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967C-EFBF-4BBF-9DDF-67815E99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4186-554C-4F3E-9CE4-96400B67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AABE-B0DE-4754-8351-BDFC7480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C167-F2B1-48AB-8F97-56CAFCAE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977B-BB61-4EBA-A54F-B75B8A99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3A2E-31F6-47AF-BD9D-E63469EC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500E-16B9-4D25-B769-2857F83C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E341-4F49-46CC-8CD3-35C12017A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F2CD-460B-4974-B4A9-D7871B22B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E3685-78C9-4F1A-B986-C582CDD40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C59B8-FFF3-410B-A05A-BE7F075D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72D72-2EF4-4D4F-9C98-B227EEBF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BED47-E90C-4D35-8A0A-A0F901CF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C444F-531C-43B7-8A6B-ACA8E64C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E293-D08C-46FF-AA69-1EDE6507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BD31B-827F-4A06-BE31-16C8C0AF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354CB-CC6F-44D5-ABA8-E3CA824B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62149-3A9E-476D-86FD-49BE6701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43168-A7FF-42BC-A260-8408E905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44D07-0005-4B4F-953C-FE4BC2D7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59F39-C8DF-472B-93C8-B7D1952AE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60F70-9197-4A91-BC07-9F9DE7A11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C55B-620F-400B-8AB2-CBD3C5A5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89C0-191E-4A5A-8FB2-58CF6DD0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4DB8-E263-43D2-9CD3-119F51AF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4350-5645-4799-9524-4075A17C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E864-1B1A-454F-9905-E5110031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466D-B414-4ECE-A8E3-C69B74C5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02B6FA-AA2F-4F6E-9732-7B2626515A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0D86CA-A95D-449C-A6A8-D413114454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gocampo\Escritorio\LOGO-02.png"/>
          <p:cNvPicPr/>
          <p:nvPr/>
        </p:nvPicPr>
        <p:blipFill>
          <a:blip r:embed="rId3"/>
          <a:stretch/>
        </p:blipFill>
        <p:spPr>
          <a:xfrm>
            <a:off x="6872400" y="127080"/>
            <a:ext cx="2212920" cy="1290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DBD190-3B06-42EE-A711-D8EAA939EA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010017-4D3D-4A9E-A5A6-D565B3300A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Documents and Settings\gocampo\Escritorio\LOGO-02.png"/>
          <p:cNvPicPr/>
          <p:nvPr/>
        </p:nvPicPr>
        <p:blipFill>
          <a:blip r:embed="rId3"/>
          <a:stretch/>
        </p:blipFill>
        <p:spPr>
          <a:xfrm>
            <a:off x="6872400" y="127080"/>
            <a:ext cx="2212920" cy="1290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39F237-3262-4039-97EF-9A4394A803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6F2C5B-B239-4581-97A4-31989AFAC2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O" sz="4800" spc="-1" strike="noStrike">
                <a:solidFill>
                  <a:srgbClr val="000000"/>
                </a:solidFill>
                <a:latin typeface="Calibri"/>
              </a:rPr>
              <a:t>SECRETARÍA DE HACIEND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3 Imagen" descr=""/>
          <p:cNvPicPr/>
          <p:nvPr/>
        </p:nvPicPr>
        <p:blipFill>
          <a:blip r:embed="rId1"/>
          <a:stretch/>
        </p:blipFill>
        <p:spPr>
          <a:xfrm>
            <a:off x="1728720" y="781200"/>
            <a:ext cx="6335640" cy="52956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3 Marcador de contenido" descr=""/>
          <p:cNvPicPr/>
          <p:nvPr/>
        </p:nvPicPr>
        <p:blipFill>
          <a:blip r:embed="rId1"/>
          <a:stretch/>
        </p:blipFill>
        <p:spPr>
          <a:xfrm>
            <a:off x="1481040" y="878040"/>
            <a:ext cx="5897520" cy="52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1455 Imagen" descr=""/>
          <p:cNvPicPr/>
          <p:nvPr/>
        </p:nvPicPr>
        <p:blipFill>
          <a:blip r:embed="rId1"/>
          <a:stretch/>
        </p:blipFill>
        <p:spPr>
          <a:xfrm>
            <a:off x="1641600" y="349200"/>
            <a:ext cx="6162480" cy="624996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3"/>
          <p:cNvSpPr/>
          <p:nvPr/>
        </p:nvSpPr>
        <p:spPr>
          <a:xfrm>
            <a:off x="1633680" y="511200"/>
            <a:ext cx="5876640" cy="57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3 Imagen" descr=""/>
          <p:cNvPicPr/>
          <p:nvPr/>
        </p:nvPicPr>
        <p:blipFill>
          <a:blip r:embed="rId1"/>
          <a:stretch/>
        </p:blipFill>
        <p:spPr>
          <a:xfrm>
            <a:off x="1816200" y="379440"/>
            <a:ext cx="6654600" cy="61596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7200" y="1189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O" sz="4800" spc="-1" strike="noStrike">
                <a:solidFill>
                  <a:srgbClr val="000000"/>
                </a:solidFill>
                <a:latin typeface="Calibri"/>
              </a:rPr>
              <a:t>MUCHAS GRACIAS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4 Imagen" descr=""/>
          <p:cNvPicPr/>
          <p:nvPr/>
        </p:nvPicPr>
        <p:blipFill>
          <a:blip r:embed="rId1"/>
          <a:stretch/>
        </p:blipFill>
        <p:spPr>
          <a:xfrm>
            <a:off x="949320" y="1690560"/>
            <a:ext cx="7107120" cy="3916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3 Imagen" descr=""/>
          <p:cNvPicPr/>
          <p:nvPr/>
        </p:nvPicPr>
        <p:blipFill>
          <a:blip r:embed="rId1"/>
          <a:stretch/>
        </p:blipFill>
        <p:spPr>
          <a:xfrm>
            <a:off x="1535040" y="723960"/>
            <a:ext cx="6367680" cy="53499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57040"/>
            <a:ext cx="8229600" cy="619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Calibri"/>
              </a:rPr>
              <a:t>DEUDA PÚBLICA</a:t>
            </a:r>
            <a:br>
              <a:rPr sz="2000"/>
            </a:b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Durante el presente período de gobierno, el saldo de la Deuda Pública se incrementó en $29.473 millones, pasando de $27.749 a $57.222, con un incremento porcentual del 106%.  Se han obtenido créditos por la suma de $90.620 millones, se amortizó a la deuda $61.147 millones y se pagó por intereses la suma de $14.875 millones.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Los indicadores de la Ley 358 de 1997, son: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000"/>
            </a:br>
            <a:r>
              <a:rPr b="1" i="1" lang="es-ES_tradnl" sz="2000" spc="-1" strike="noStrike">
                <a:solidFill>
                  <a:srgbClr val="000000"/>
                </a:solidFill>
                <a:latin typeface="Calibri"/>
              </a:rPr>
              <a:t>SOLVENCIA</a:t>
            </a: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  (Intereses pagados y causados durante la vigencia / ahorro operacional) = </a:t>
            </a:r>
            <a:r>
              <a:rPr b="1" i="1" lang="es-ES_tradnl" sz="2000" spc="-1" strike="noStrike">
                <a:solidFill>
                  <a:srgbClr val="000000"/>
                </a:solidFill>
                <a:latin typeface="Calibri"/>
              </a:rPr>
              <a:t>8.89%</a:t>
            </a:r>
            <a:br>
              <a:rPr sz="2000"/>
            </a:br>
            <a:r>
              <a:rPr b="1" i="1" lang="es-ES_tradnl" sz="2000" spc="-1" strike="noStrike">
                <a:solidFill>
                  <a:srgbClr val="000000"/>
                </a:solidFill>
                <a:latin typeface="Calibri"/>
              </a:rPr>
              <a:t>SOSTENIBILIDAD</a:t>
            </a: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  (Saldo de la deuda / Ingresos Corrientes) = </a:t>
            </a:r>
            <a:r>
              <a:rPr b="1" i="1" lang="es-ES_tradnl" sz="2000" spc="-1" strike="noStrike">
                <a:solidFill>
                  <a:srgbClr val="000000"/>
                </a:solidFill>
                <a:latin typeface="Calibri"/>
              </a:rPr>
              <a:t>55.09%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Calibri"/>
              </a:rPr>
              <a:t>Los cuales se encuentran dentro de los límites establecidos por la Ley 358 de 1997, cuyos indicadores no pueden superar el 40% y el 80% respectivament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1 Gráfico" descr=""/>
          <p:cNvPicPr/>
          <p:nvPr/>
        </p:nvPicPr>
        <p:blipFill>
          <a:blip r:embed="rId1"/>
          <a:stretch/>
        </p:blipFill>
        <p:spPr>
          <a:xfrm>
            <a:off x="274680" y="506520"/>
            <a:ext cx="8594640" cy="58449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1 Gráfico" descr=""/>
          <p:cNvPicPr/>
          <p:nvPr/>
        </p:nvPicPr>
        <p:blipFill>
          <a:blip r:embed="rId1"/>
          <a:stretch/>
        </p:blipFill>
        <p:spPr>
          <a:xfrm>
            <a:off x="281160" y="506520"/>
            <a:ext cx="8581680" cy="58449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1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8869320" cy="63514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4 Gráfico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5731200" cy="458316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3 Gráfico" descr=""/>
          <p:cNvPicPr/>
          <p:nvPr/>
        </p:nvPicPr>
        <p:blipFill>
          <a:blip r:embed="rId1"/>
          <a:stretch/>
        </p:blipFill>
        <p:spPr>
          <a:xfrm>
            <a:off x="1359000" y="1341360"/>
            <a:ext cx="6254640" cy="44434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16:58:52Z</dcterms:created>
  <dc:creator>Waldo Mejia</dc:creator>
  <dc:description/>
  <dc:language>en-US</dc:language>
  <cp:lastModifiedBy>Gocampo</cp:lastModifiedBy>
  <dcterms:modified xsi:type="dcterms:W3CDTF">2011-12-21T13:17:08Z</dcterms:modified>
  <cp:revision>33</cp:revision>
  <dc:subject/>
  <dc:title>Slide 1</dc:title>
</cp:coreProperties>
</file>