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CFE5-9F04-4105-A6C8-6D03FF20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D59-1657-4543-9798-68530D49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AF3-7B18-4737-B1F9-A4B9776D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DB58-7558-454B-AA21-A8C67112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912F-A8B4-465B-A868-37E97CD8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9811-3122-4E92-85D4-EEA0BF77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C636-A6E9-4083-894C-3323F4F7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5BAF-D461-463D-9FD5-89ED8C40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F8CC-929B-40B3-A684-AE930DEB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A463-A06F-4F40-8731-8D4323CB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79BB-2CC8-4605-B4F7-B14CAE0C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F7D-A792-4751-8B12-9A4F005E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BC1B-29C4-4178-8E0F-BE65D294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94A6-A4CB-4226-9C33-3EDEAA81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B359-8FAA-4688-94FF-1F4C187D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7603-D919-4776-B820-9EF0B52E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21F2-EC6E-4AF5-89E5-3EBA5453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1E168-2632-42CD-BB08-68889BC1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A5248-9230-4C38-AEF3-9E8C6A02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791B6-1942-48FF-99BD-54E73FFE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0A903-FFD4-4021-8A7C-D76D1138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8A9C6-3304-4E15-996F-84FCFFD0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F6F-FDB7-4FA2-9BB5-4DEE1F50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0351E-4674-4D35-ACB7-ABA836BA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78E09-DF7F-4F5D-A7DB-113A0E9F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73F2A-82E8-4851-85CE-516168EE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CEBED-02F8-4AA5-AD3F-268DB4E2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04050-51F2-4CFE-A672-730C67EF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00C6D-01C8-4F16-9341-92786AB7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E2D09-7FCA-4603-AB69-36F52E6F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C596-C9DD-4CB9-816F-46D68A8A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C6C-7349-49B1-AFD8-55E7E635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2AF-B4FC-4EBB-86F9-DBDE5011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B69-8A09-43E1-9464-6714F4D8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C646-FDB0-4012-8AF0-0335A23C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A6D7-E9E7-439B-89FB-47CD8FD1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A9EE2-8258-47DB-8415-694821FEA5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C4D0B-FF5E-4AFE-9F17-6A34D2A8A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gocampo\Escritorio\LOGO-02.png"/>
          <p:cNvPicPr/>
          <p:nvPr/>
        </p:nvPicPr>
        <p:blipFill>
          <a:blip r:embed="rId3"/>
          <a:stretch/>
        </p:blipFill>
        <p:spPr>
          <a:xfrm>
            <a:off x="6872400" y="127080"/>
            <a:ext cx="2212920" cy="1290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6D034-FEF8-4A5D-A199-EE54258D32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902E75-0A6C-4B87-9064-4DCF0021F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gocampo\Escritorio\LOGO-02.png"/>
          <p:cNvPicPr/>
          <p:nvPr/>
        </p:nvPicPr>
        <p:blipFill>
          <a:blip r:embed="rId3"/>
          <a:stretch/>
        </p:blipFill>
        <p:spPr>
          <a:xfrm>
            <a:off x="6872400" y="127080"/>
            <a:ext cx="2212920" cy="1290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2EEB5-C030-4509-9745-B8C795D72E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0FDA1-7AA7-40CF-955E-87A6C48B7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5 CuadroTexto"/>
          <p:cNvSpPr/>
          <p:nvPr/>
        </p:nvSpPr>
        <p:spPr>
          <a:xfrm>
            <a:off x="519120" y="1998720"/>
            <a:ext cx="80787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5200" spc="-1" strike="noStrike">
                <a:solidFill>
                  <a:srgbClr val="000000"/>
                </a:solidFill>
                <a:latin typeface="Arial"/>
              </a:rPr>
              <a:t>INFORME DE GESTION 2008 - 2011  SECRETARIA DE CULTURA DE CALDA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2 Subtítulo"/>
          <p:cNvSpPr/>
          <p:nvPr/>
        </p:nvSpPr>
        <p:spPr>
          <a:xfrm>
            <a:off x="714240" y="1276200"/>
            <a:ext cx="78058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 u="sng">
                <a:solidFill>
                  <a:srgbClr val="128e4f"/>
                </a:solidFill>
                <a:uFillTx/>
                <a:latin typeface="Calibri"/>
                <a:ea typeface="ＭＳ Ｐゴシック"/>
              </a:rPr>
              <a:t>LOG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olidación del programa de participación ciudadana Vigías del Patrimonio Cultural, en brigadas de voluntariado, en 22 municipios del departamento, como estrategia de Divulgación, sensibilización y apropiación Social del Patrimonio Cultural, por parte de las comunidades del Departamento de Cal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Fortalecimiento de la Escuela Talle r de Recuperación de Materiales, Técnicas Constructivas y Saberes Tradicionales de Caldas, localizada en el Municipio de Salam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onsolidación del Consejo Departamental de Patrimonio Cultural, Cal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5 CuadroTexto"/>
          <p:cNvSpPr/>
          <p:nvPr/>
        </p:nvSpPr>
        <p:spPr>
          <a:xfrm>
            <a:off x="1865160" y="404640"/>
            <a:ext cx="692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SERVACIÓN DEL PATRIMONIO Y LA IDENTIDAD CULTURAL DEL DEPARTAMENTO DE CAL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2 Subtítulo"/>
          <p:cNvSpPr/>
          <p:nvPr/>
        </p:nvSpPr>
        <p:spPr>
          <a:xfrm>
            <a:off x="365040" y="1233360"/>
            <a:ext cx="8155080" cy="50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 u="sng">
                <a:solidFill>
                  <a:srgbClr val="128e4f"/>
                </a:solidFill>
                <a:uFillTx/>
                <a:latin typeface="Calibri"/>
                <a:ea typeface="ＭＳ Ｐゴシック"/>
              </a:rPr>
              <a:t>LOG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lización de Inventarios y registros del Patrimonio Cultural, con el fin de definir actividades e intervenciones que conlleven a su preservación y divulgación, para la generación de la política pública de Preservación del Patrimonio Cultural del Depart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lo anterior se han realizado diferentes etapas del Inventario y Regist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TRIMONIO INMUE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orada, Norcasia, Victoria, Manzanares, Pensilvania, Marquetalia, Marulanda, Neira, Aranzazu, Pacora, Belalcazar, La Merced y Marm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TRIMONIO IN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osucio, Supía, Anserma, Risaralda, San José, Belalcazar, Viterbo, La Merced, Marmato, La Dorada, Norcasia, Victoria y Sama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35 CuadroTexto"/>
          <p:cNvSpPr/>
          <p:nvPr/>
        </p:nvSpPr>
        <p:spPr>
          <a:xfrm>
            <a:off x="1865160" y="404640"/>
            <a:ext cx="692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SERVACIÓN DEL PATRIMONIO Y LA IDENTIDAD CULTURAL DEL DEPARTAMENTO DE CAL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2 Subtítulo"/>
          <p:cNvSpPr/>
          <p:nvPr/>
        </p:nvSpPr>
        <p:spPr>
          <a:xfrm>
            <a:off x="714240" y="1276200"/>
            <a:ext cx="78058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 u="sng">
                <a:solidFill>
                  <a:srgbClr val="128e4f"/>
                </a:solidFill>
                <a:uFillTx/>
                <a:latin typeface="Calibri"/>
                <a:ea typeface="ＭＳ Ｐゴシック"/>
              </a:rPr>
              <a:t>LOG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claratoria del Carnaval de Riosucio como Bien de Interés Cultural Nacio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aboración del Plan Especial de Salvaguardia de la 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nifestaciones Culturales del Carnaval de Riosuc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icio de los Planes Especiales de Manejo y Protección de los Centros Históricos de Aguadas y Salam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5 CuadroTexto"/>
          <p:cNvSpPr/>
          <p:nvPr/>
        </p:nvSpPr>
        <p:spPr>
          <a:xfrm>
            <a:off x="1865160" y="404640"/>
            <a:ext cx="692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SERVACIÓN DEL PATRIMONIO Y LA IDENTIDAD CULTURAL DEL DEPARTAMENTO DE CAL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2 Subtítulo"/>
          <p:cNvSpPr/>
          <p:nvPr/>
        </p:nvSpPr>
        <p:spPr>
          <a:xfrm>
            <a:off x="714240" y="1276200"/>
            <a:ext cx="78058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 u="sng">
                <a:solidFill>
                  <a:srgbClr val="128e4f"/>
                </a:solidFill>
                <a:uFillTx/>
                <a:latin typeface="Calibri"/>
                <a:ea typeface="ＭＳ Ｐゴシック"/>
              </a:rPr>
              <a:t>LOG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cuperación del Patrimonio Cultural, a través de obras  de mantenimiento en Bienes Inmuebles de Interés Cultural, en los municipios de Aranzazu, Salamina, Neira, Belalcázar, San José, Viterbo, Aguadas, Risaralda, Chinchiná, Manizales y Filadelfia como estrategia de preservación y salvaguarda del Patrimonio Cultural Mate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35 CuadroTexto"/>
          <p:cNvSpPr/>
          <p:nvPr/>
        </p:nvSpPr>
        <p:spPr>
          <a:xfrm>
            <a:off x="1865160" y="419040"/>
            <a:ext cx="692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SERVACIÓN DEL PATRIMONIO Y LA IDENTIDAD CULTURAL DEL DEPARTAMENTO DE CAL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2 Subtítulo"/>
          <p:cNvSpPr/>
          <p:nvPr/>
        </p:nvSpPr>
        <p:spPr>
          <a:xfrm>
            <a:off x="127080" y="1703520"/>
            <a:ext cx="86486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 u="sng">
                <a:solidFill>
                  <a:srgbClr val="128e4f"/>
                </a:solidFill>
                <a:uFillTx/>
                <a:latin typeface="Calibri"/>
                <a:ea typeface="ＭＳ Ｐゴシック"/>
              </a:rPr>
              <a:t>LOG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lización de un Encuentro Etnocultural, con la participación de 2000 indígenas y afrodescendie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implementó un Sistema de información que consolida toda la oferta del departamento en términos de arte y cultura, Tener la información actualizada y georreferenciada,  acerca del inventario del patrimonio, y de lo cultural, de las rutas turísticas y de los eventos, se ha vuelto una necesidad para toda la red cultural departamento y de los promotores que buscan vender a Caldas como destino turístico a nivel nacional e internacion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35 CuadroTexto"/>
          <p:cNvSpPr/>
          <p:nvPr/>
        </p:nvSpPr>
        <p:spPr>
          <a:xfrm>
            <a:off x="1882800" y="355680"/>
            <a:ext cx="707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5. GESTIÓN DE PROCESOS DE FORMACIÓN Y DIVULGACIÓN DE LA CULTURA EN CALDAS Y SU INTERNACIONAL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2 Subtítulo"/>
          <p:cNvSpPr/>
          <p:nvPr/>
        </p:nvSpPr>
        <p:spPr>
          <a:xfrm>
            <a:off x="127080" y="1785960"/>
            <a:ext cx="8648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 u="sng">
                <a:solidFill>
                  <a:srgbClr val="128e4f"/>
                </a:solidFill>
                <a:uFillTx/>
                <a:latin typeface="Calibri"/>
                <a:ea typeface="ＭＳ Ｐゴシック"/>
              </a:rPr>
              <a:t>LOG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solidación de aproximadamente 400 registros y 300 usuarios de la comunidad virtual del sist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35 CuadroTexto"/>
          <p:cNvSpPr/>
          <p:nvPr/>
        </p:nvSpPr>
        <p:spPr>
          <a:xfrm>
            <a:off x="1882800" y="355680"/>
            <a:ext cx="707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5. GESTIÓN DE PROCESOS DE FORMACIÓN Y DIVULGACIÓN DE LA CULTURA EN CALDAS Y SU INTERNACIONAL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39760" y="297000"/>
            <a:ext cx="82296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ENTIDADES CULTURALES APOYAD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200772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Fundación para la Formación Musical: Orquesta de Cámara de Cald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Fundación Batuta Cal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Museo de Arte de Cal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Orquesta Sinfónica Juveni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Agrupación Teatral T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Actores en Esce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200772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Academia Caldense de Histo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Fundación Escenarios de V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Corporación Carnaval de Riosu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Corporación Encuentro de la Pala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Fundación Punto de Part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Corporación Rafaél Pom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ÉVENTOS  CULTURALES APOYAD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200772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estival Internacional de Teat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estival Nacional del Pasil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estival Internacional del Bol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estival Internacional de Música Ciudad de Maniz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estival del Jaz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estival Nacional de Poes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19000" y="385920"/>
            <a:ext cx="8229600" cy="11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ÉVENTOS  CULTURALES APOYAD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808280"/>
            <a:ext cx="822960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Juegos Florales de Maniz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Festival Internacional de Música Sac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articipación del Departamento en las Ferias del Libro en Bogot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articipación de la Banda de Neira a Houst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articipación de la Gobernación en todas las fiestas y celebraciones municipa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articipación en el Día del Niño, el Libro y la Recreació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534960" y="1898640"/>
          <a:ext cx="7497720" cy="3255840"/>
        </p:xfrm>
        <a:graphic>
          <a:graphicData uri="http://schemas.openxmlformats.org/drawingml/2006/table">
            <a:tbl>
              <a:tblPr/>
              <a:tblGrid>
                <a:gridCol w="1854360"/>
                <a:gridCol w="3051000"/>
                <a:gridCol w="2592360"/>
              </a:tblGrid>
              <a:tr h="31284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UPUEST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48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RETARIA DE CULTURA 2008-20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UPUESTO INIC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UPUESTO EJECUT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1.858.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</a:t>
                      </a: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53.106.517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22.350.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</a:t>
                      </a: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79.240.127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02.064.67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</a:t>
                      </a: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92.920.000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28.400.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</a:t>
                      </a: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14.770.818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5 CuadroTexto"/>
          <p:cNvSpPr/>
          <p:nvPr/>
        </p:nvSpPr>
        <p:spPr>
          <a:xfrm>
            <a:off x="1508040" y="538200"/>
            <a:ext cx="6953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3800" spc="-1" strike="noStrike">
                <a:solidFill>
                  <a:srgbClr val="000000"/>
                </a:solidFill>
                <a:latin typeface="Arial"/>
              </a:rPr>
              <a:t>PROGRAM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0 CuadroTexto"/>
          <p:cNvSpPr/>
          <p:nvPr/>
        </p:nvSpPr>
        <p:spPr>
          <a:xfrm>
            <a:off x="216000" y="1785960"/>
            <a:ext cx="86691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DESARROLLO INSTITU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FOMENTO A LA CUL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GRAMA DEPARTAMENTAL DE FORMACIÓN ARTÍS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ESERVACIÓN DEL PATRIMONIO Y LA IDENTIDAD CULTURAL DEL DEPARTAMENTO DE CAL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GESTIÓN DE PROCESOS DE FORMACIÓN Y DIVULGACIÓN DE LA CULTURA DE CALDAS Y SU INTERNACIONAL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5 CuadroTexto"/>
          <p:cNvSpPr/>
          <p:nvPr/>
        </p:nvSpPr>
        <p:spPr>
          <a:xfrm>
            <a:off x="1486080" y="573120"/>
            <a:ext cx="724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. DESARROLLO 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2 Subtítulo"/>
          <p:cNvSpPr/>
          <p:nvPr/>
        </p:nvSpPr>
        <p:spPr>
          <a:xfrm>
            <a:off x="195120" y="1395360"/>
            <a:ext cx="83487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128e4f"/>
                </a:solidFill>
                <a:uFillTx/>
                <a:latin typeface="Calibri"/>
                <a:ea typeface="ＭＳ Ｐゴシック"/>
              </a:rPr>
              <a:t>LOG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reación de 26  consejos municipales de cultura, 3 consejos de áreas artísticas  y 1 de medios comunitarios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alización del diplomado en Gestión Cultural para la Administración Pública dirigida a todos los gestores y actores culturales del departa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2 Subtítulo"/>
          <p:cNvSpPr/>
          <p:nvPr/>
        </p:nvSpPr>
        <p:spPr>
          <a:xfrm>
            <a:off x="263520" y="1714680"/>
            <a:ext cx="85662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128e4f"/>
                </a:solidFill>
                <a:uFillTx/>
                <a:latin typeface="Calibri"/>
                <a:ea typeface="ＭＳ Ｐゴシック"/>
              </a:rPr>
              <a:t>LOG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han apoyado  280 iniciativas culturales en todas las áreas artísticas y culturales, representadas en eventos, fiestas, celebraciones, muestras, salones de arte, agrupaciones, entidades culturales y procesos form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35 CuadroTexto"/>
          <p:cNvSpPr/>
          <p:nvPr/>
        </p:nvSpPr>
        <p:spPr>
          <a:xfrm>
            <a:off x="1584360" y="84456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2. FOMENTO A LA 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2 Subtítulo"/>
          <p:cNvSpPr/>
          <p:nvPr/>
        </p:nvSpPr>
        <p:spPr>
          <a:xfrm>
            <a:off x="236520" y="1609560"/>
            <a:ext cx="86612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128e4f"/>
                </a:solidFill>
                <a:uFillTx/>
                <a:latin typeface="Calibri"/>
                <a:ea typeface="ＭＳ Ｐゴシック"/>
              </a:rPr>
              <a:t>LOG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formación permanente de 1500 jóvenes y niños en las diferentes modalidades cultu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rmación permanente a más de 1000 niños y jóvenes en música autóctona y tradicional que ha permitido la conformación de 26 escuelas de música institucionalizadas por los respectivos concejos municip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5 CuadroTexto"/>
          <p:cNvSpPr/>
          <p:nvPr/>
        </p:nvSpPr>
        <p:spPr>
          <a:xfrm>
            <a:off x="1741320" y="493560"/>
            <a:ext cx="700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3. PROGRAMA DEPARTAMENTAL DE FORMACIÓN ARTÍSTICA Y CULTU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5 CuadroTexto"/>
          <p:cNvSpPr/>
          <p:nvPr/>
        </p:nvSpPr>
        <p:spPr>
          <a:xfrm>
            <a:off x="1741320" y="561960"/>
            <a:ext cx="700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3. PROGRAMA DEPARTAMENTAL DE LECTURA Y BIBLIOTE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2 Subtítulo"/>
          <p:cNvSpPr/>
          <p:nvPr/>
        </p:nvSpPr>
        <p:spPr>
          <a:xfrm>
            <a:off x="642960" y="1500120"/>
            <a:ext cx="825480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 u="sng">
                <a:solidFill>
                  <a:srgbClr val="128e4f"/>
                </a:solidFill>
                <a:uFillTx/>
                <a:latin typeface="Arial"/>
                <a:ea typeface="Arial"/>
              </a:rPr>
              <a:t>LOG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ormación permanente a todos los bibliotecarios del departamento a través de talleres, seminarios, congres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comunicación permanente con el Ministerio de Cultura ha sido crucial para el fortalecimiento  de las bibliotecas públicas del departamento,   a través de  con un convenio de asociación con este Ministerio se logró la dotación del el 98%  de las bibliotecas del departamento, y con la gestión ante la Embajada del Japón se logró construir 5  bibliotecas en los municipios de Pensilvania, Marmato, San Jose, Villamaría, Filadelf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5 CuadroTexto"/>
          <p:cNvSpPr/>
          <p:nvPr/>
        </p:nvSpPr>
        <p:spPr>
          <a:xfrm>
            <a:off x="1892160" y="466560"/>
            <a:ext cx="7005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Subtítulo"/>
          <p:cNvSpPr/>
          <p:nvPr/>
        </p:nvSpPr>
        <p:spPr>
          <a:xfrm>
            <a:off x="642960" y="1500120"/>
            <a:ext cx="825480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 u="sng">
                <a:solidFill>
                  <a:srgbClr val="128e4f"/>
                </a:solidFill>
                <a:uFillTx/>
                <a:latin typeface="Arial"/>
                <a:ea typeface="Arial"/>
              </a:rPr>
              <a:t>LOG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mplementación de programas de promoción a la lectura que han sido modelos a nivel nacio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otación de colecciones nuevas a todas las bibliotecas públicas del departamento, como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herramienta importante para la actualización de la información y el conocimiento, y de esta manera prestar un mejor servicio biblioteca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3 Rectángulo"/>
          <p:cNvSpPr/>
          <p:nvPr/>
        </p:nvSpPr>
        <p:spPr>
          <a:xfrm>
            <a:off x="2286000" y="466560"/>
            <a:ext cx="52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3. PROGRAMA DEPARTAMENTAL DE LECTURA Y BIBLIOTE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2 Subtítulo"/>
          <p:cNvSpPr/>
          <p:nvPr/>
        </p:nvSpPr>
        <p:spPr>
          <a:xfrm>
            <a:off x="714240" y="1276200"/>
            <a:ext cx="78058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 u="sng">
                <a:solidFill>
                  <a:srgbClr val="128e4f"/>
                </a:solidFill>
                <a:uFillTx/>
                <a:latin typeface="Calibri"/>
                <a:ea typeface="ＭＳ Ｐゴシック"/>
              </a:rPr>
              <a:t>LOG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claratoria del Paisaje Cultural Cafetero, de los departamentos de Caldas, Quindío, Risaralda y Valle como patrimonio mundial y Nacio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laneación del desarrollo de los objetivos del Plan de Manejo del Paisaje Cultural Cafete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udios de Rutas de Turismo Cultural en las Subregiones Norte, Magdalena Caldense y Occidente Alto y Baj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5 CuadroTexto"/>
          <p:cNvSpPr/>
          <p:nvPr/>
        </p:nvSpPr>
        <p:spPr>
          <a:xfrm>
            <a:off x="1865160" y="404640"/>
            <a:ext cx="692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SERVACIÓN DEL PATRIMONIO Y LA IDENTIDAD CULTURAL DEL DEPARTAMENTO DE CAL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6:58:52Z</dcterms:created>
  <dc:creator>Waldo Mejia</dc:creator>
  <dc:description/>
  <dc:language>en-US</dc:language>
  <cp:lastModifiedBy>usuario</cp:lastModifiedBy>
  <dcterms:modified xsi:type="dcterms:W3CDTF">2011-12-19T18:27:29Z</dcterms:modified>
  <cp:revision>4</cp:revision>
  <dc:subject/>
  <dc:title>Slide 1</dc:title>
</cp:coreProperties>
</file>