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62449-F55A-4032-BC67-FD18418FA2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B5751-C85F-4C78-AF6C-5A783C0188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330-DD09-491F-8753-DD4487B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EF4-6CFD-4249-84B1-DC0DB688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7DF-5307-4910-BA93-1A0A7699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CE4-6830-4BB0-85BC-BAF9164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56E-7995-4C93-A5CA-98F2BC4E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9C03-8C91-4D5E-9EAA-08003FB0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1342-723A-44B3-B6A9-48C0189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D46-5588-4422-885F-BFCFD957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73AF-C388-4F64-BB57-F2773806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DB8-5636-4544-B65F-B5D8F06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437C-7A7E-4657-B962-BBBE7C0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42D-117F-42A1-8FFB-ABF2353B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B389-C10E-4DD2-81EB-469D5567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34A9-67AC-4C69-B8E7-8B5825A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B4B4-3378-4775-B973-329D069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15B-E0E0-424E-A8C9-9BDDE020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274F-0D62-4F84-A031-F4AF47F6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4CC4-2749-4338-B3AC-1B40B284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94FF-AE91-478E-BE91-221E967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1706-6728-4B4A-9778-9CC0671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B7C0-C358-4786-B450-FEB82595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8A66-5F05-4DC7-AC15-80AD139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B31-8957-4AEA-9107-C86AF3A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FCD0-D30F-4139-BE93-F17B4E85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AA8B-7153-4651-81A9-183EBDB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A319-A1C3-477E-9055-C2F701A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2EA75-514B-4FE7-AF9B-35245FF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9D18-BBA7-43AA-84D0-233896E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0278-E8CD-4D22-AD6B-3267B506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9E80-9E6F-4985-AB77-40057A23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413-F422-458E-B27F-98C760A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00-6741-488C-8CE6-370915BF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C5D-706A-4FF9-965E-B0B7645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2A8-6C80-4198-90A0-4B43C03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C3C-75F0-44E8-94DF-FCA9354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DED-FE50-4140-839D-E98E989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5808F-9746-4821-BC47-D2D926FD9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0C0FC-DF3C-4BDE-85D0-465D0AE34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22938-C10E-4A82-BA51-E91246920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A902E-A50F-4B37-91D0-98629E7A1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gocampo\Escritorio\LOGO-02.png"/>
          <p:cNvPicPr/>
          <p:nvPr/>
        </p:nvPicPr>
        <p:blipFill>
          <a:blip r:embed="rId3"/>
          <a:stretch/>
        </p:blipFill>
        <p:spPr>
          <a:xfrm>
            <a:off x="6872400" y="127080"/>
            <a:ext cx="2212920" cy="129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2400F-FE97-4BF6-B5E1-C8189C5DBB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CBE4-3CBA-41BA-95AB-13E922C6F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8564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RESA DE OBRAS SANITARIAS DE CALD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POCALDAS S.A. E.S.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NDICION DE CUENTAS PERIODO 2008-2011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3906720" y="509904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720" y="509904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ativo Cart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31960" y="1606680"/>
            <a:ext cx="7854840" cy="40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isis Comparativo Cart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758000" cy="477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CION DE INVERS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5088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5"/>
          <p:cNvGraphicFramePr/>
          <p:nvPr/>
        </p:nvGraphicFramePr>
        <p:xfrm>
          <a:off x="1884240" y="55260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4240" y="55260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br>
              <a:rPr sz="2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720720" y="1417680"/>
            <a:ext cx="7786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1098720" y="1417680"/>
            <a:ext cx="75880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ON PRESUPUESTAL</a:t>
            </a:r>
            <a:br>
              <a:rPr sz="2400"/>
            </a:b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735120" y="1417680"/>
            <a:ext cx="7564320" cy="48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5"/>
          <p:cNvGraphicFramePr/>
          <p:nvPr/>
        </p:nvGraphicFramePr>
        <p:xfrm>
          <a:off x="2494080" y="558720"/>
          <a:ext cx="85860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4080" y="558720"/>
                    <a:ext cx="8586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9390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ST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962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5"/>
          <p:cNvGraphicFramePr/>
          <p:nvPr/>
        </p:nvGraphicFramePr>
        <p:xfrm>
          <a:off x="2022480" y="558720"/>
          <a:ext cx="858960" cy="85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2480" y="558720"/>
                    <a:ext cx="858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ERCIALIZAC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SERVICI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7756560" cy="50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T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122480" y="1600200"/>
            <a:ext cx="720396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1940040" y="549360"/>
          <a:ext cx="666720" cy="6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0040" y="54936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58:52Z</dcterms:created>
  <dc:creator>Waldo Mejia</dc:creator>
  <dc:description/>
  <dc:language>en-US</dc:language>
  <cp:lastModifiedBy>Gocampo</cp:lastModifiedBy>
  <dcterms:modified xsi:type="dcterms:W3CDTF">2011-12-21T13:15:18Z</dcterms:modified>
  <cp:revision>7</cp:revision>
  <dc:subject/>
  <dc:title>Slide 1</dc:title>
</cp:coreProperties>
</file>